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a1b31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2FB4-7F79-4705-9055-FD1EADC16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5646-FCB4-47A3-88CC-E73739B7520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4021200" y="971064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9369B612-B8CD-4C1F-987F-D5D7DCB31F1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5400" y="766800"/>
            <a:ext cx="5105520" cy="3830760"/>
          </a:xfrm>
          <a:prstGeom prst="rect">
            <a:avLst/>
          </a:prstGeom>
          <a:ln w="0">
            <a:noFill/>
          </a:ln>
        </p:spPr>
      </p:sp>
      <p:sp>
        <p:nvSpPr>
          <p:cNvPr id="104" name="Text Box 3"/>
          <p:cNvSpPr/>
          <p:nvPr/>
        </p:nvSpPr>
        <p:spPr>
          <a:xfrm>
            <a:off x="709560" y="4856040"/>
            <a:ext cx="567684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AD73-B03A-4244-BD38-CF3B09E2DF5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"/>
          <p:cNvSpPr/>
          <p:nvPr/>
        </p:nvSpPr>
        <p:spPr>
          <a:xfrm>
            <a:off x="4021200" y="971064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1004CE8A-12BD-4E5B-8649-CF24739C286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95400" y="766800"/>
            <a:ext cx="5105520" cy="3830760"/>
          </a:xfrm>
          <a:prstGeom prst="rect">
            <a:avLst/>
          </a:prstGeom>
          <a:ln w="0">
            <a:noFill/>
          </a:ln>
        </p:spPr>
      </p:sp>
      <p:sp>
        <p:nvSpPr>
          <p:cNvPr id="108" name="Text Box 3"/>
          <p:cNvSpPr/>
          <p:nvPr/>
        </p:nvSpPr>
        <p:spPr>
          <a:xfrm>
            <a:off x="709560" y="4856040"/>
            <a:ext cx="567684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FC5F-FBFA-430F-955B-4FB881AFCD63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4021200" y="971064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434A2A8B-8C75-43FA-905E-007261A108E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95400" y="766800"/>
            <a:ext cx="5105520" cy="3830760"/>
          </a:xfrm>
          <a:prstGeom prst="rect">
            <a:avLst/>
          </a:prstGeom>
          <a:ln w="0">
            <a:noFill/>
          </a:ln>
        </p:spPr>
      </p:sp>
      <p:sp>
        <p:nvSpPr>
          <p:cNvPr id="112" name="Text Box 3"/>
          <p:cNvSpPr/>
          <p:nvPr/>
        </p:nvSpPr>
        <p:spPr>
          <a:xfrm>
            <a:off x="709560" y="4856040"/>
            <a:ext cx="567684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2082F-4528-421F-8050-71D42B1CE56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4021200" y="971064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0FD0E07-F3A9-49D3-BDB2-387C32571066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5400" y="766800"/>
            <a:ext cx="5105520" cy="3830760"/>
          </a:xfrm>
          <a:prstGeom prst="rect">
            <a:avLst/>
          </a:prstGeom>
          <a:ln w="0">
            <a:noFill/>
          </a:ln>
        </p:spPr>
      </p:sp>
      <p:sp>
        <p:nvSpPr>
          <p:cNvPr id="116" name="Text Box 3"/>
          <p:cNvSpPr/>
          <p:nvPr/>
        </p:nvSpPr>
        <p:spPr>
          <a:xfrm>
            <a:off x="709560" y="4856040"/>
            <a:ext cx="5676840" cy="45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1932-35BE-4BAC-B44D-03EA35078C1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4021200" y="9710640"/>
            <a:ext cx="307188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7235BE55-25EB-4D49-AC92-C0AB64195CC7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4021200" y="9710640"/>
            <a:ext cx="30733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5E6926F2-6BE4-40C5-9F31-57B19BFE295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021200" y="9710640"/>
            <a:ext cx="30747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50760" bIns="507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426B983-9F94-4791-AFB5-76E9A488368C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3600" y="766800"/>
            <a:ext cx="5112000" cy="3833640"/>
          </a:xfrm>
          <a:prstGeom prst="rect">
            <a:avLst/>
          </a:prstGeom>
          <a:ln w="0">
            <a:noFill/>
          </a:ln>
        </p:spPr>
      </p:sp>
      <p:sp>
        <p:nvSpPr>
          <p:cNvPr id="122" name="Text Box 5"/>
          <p:cNvSpPr/>
          <p:nvPr/>
        </p:nvSpPr>
        <p:spPr>
          <a:xfrm>
            <a:off x="709560" y="4856040"/>
            <a:ext cx="568008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98F1C-9A4D-48E5-8BD2-D8C16F35BC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9BE82-2143-4A96-B3B0-39B0C3E7D0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6E164-B288-4BE0-9020-4B1A5B9717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68CD-03A1-4062-87CF-1903D9CD41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5A27-5C5A-4B61-88FE-F60F87B00D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D2A63-97EF-40C9-B7EB-FB5F979CF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B683-7B54-4029-9946-CE72EF0F1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85C2B-8379-4D34-8916-56A5E24619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F8736-015F-44FC-97AE-4360DA59C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6B5C-335E-490D-86EE-366E8DE815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5D0CE-8FAA-45B0-83F9-BA76D6CDE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A118E-2F7C-4DB3-81FC-95CB1BE1F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d1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a1b3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CA61-5E48-4297-AB34-41C651F6B4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6" descr="DarkRed90"/>
          <p:cNvPicPr/>
          <p:nvPr/>
        </p:nvPicPr>
        <p:blipFill>
          <a:blip r:embed="rId2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9d1dd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16" descr="DarkRed1024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5a1b31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5a1b3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-1332000" y="2492280"/>
            <a:ext cx="117032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Tahoma"/>
              </a:rPr>
              <a:t>WP4, Task 4.3</a:t>
            </a:r>
            <a:br>
              <a:rPr sz="44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 Name-Based Replication Priorities </a:t>
            </a:r>
            <a:br>
              <a:rPr sz="3200"/>
            </a:b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(</a:t>
            </a:r>
            <a:r>
              <a:rPr b="1" lang="en-US" sz="3200" spc="-1" strike="noStrike" u="sng">
                <a:solidFill>
                  <a:srgbClr val="0070c0"/>
                </a:solidFill>
                <a:uFillTx/>
                <a:latin typeface="Tahoma"/>
              </a:rPr>
              <a:t>UCL</a:t>
            </a:r>
            <a:r>
              <a:rPr b="1" lang="en-US" sz="3200" spc="-1" strike="noStrike">
                <a:solidFill>
                  <a:srgbClr val="0070c0"/>
                </a:solidFill>
                <a:latin typeface="Tahoma"/>
              </a:rPr>
              <a:t>, SENCEP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T4.3 – Name-based replication prio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M6-M24 (July 2015 -  January 2017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Leader: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UC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Involved partners: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CL, Sence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ocu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cused on the support of mobile name-based repl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plication expected to be optimized by prioritisation ru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ases with intermittent connectivity  (infrastructure not always available); messages to be stored, carried and forwarded via mobile devic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44928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33080"/>
                <a:tab algn="l" pos="943452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79280" y="673200"/>
            <a:ext cx="8229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ahoma"/>
              </a:rPr>
              <a:t>UMOBILE</a:t>
            </a:r>
            <a:br>
              <a:rPr sz="3000"/>
            </a:br>
            <a:r>
              <a:rPr b="1" lang="en-US" sz="2200" spc="-1" strike="noStrike">
                <a:solidFill>
                  <a:srgbClr val="c00000"/>
                </a:solidFill>
                <a:latin typeface="Tahoma"/>
              </a:rPr>
              <a:t>WP4 Tasks &amp; Leaders – Task4.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250920" y="1916280"/>
            <a:ext cx="853596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Focus and Work developed so fa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Studies concerning name-based replication works for emergency servic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Ideas how to extend previous work within the UMOBILE proj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Drafted a first document to share with the partners about how to extend it using social encoun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179280" y="692280"/>
            <a:ext cx="8229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ahoma"/>
              </a:rPr>
              <a:t>UMOBILE</a:t>
            </a:r>
            <a:br>
              <a:rPr sz="3000"/>
            </a:br>
            <a:r>
              <a:rPr b="1" lang="en-US" sz="2200" spc="-1" strike="noStrike">
                <a:solidFill>
                  <a:srgbClr val="c00000"/>
                </a:solidFill>
                <a:latin typeface="Tahoma"/>
              </a:rPr>
              <a:t>Task 4.3: Current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20520" y="3492360"/>
            <a:ext cx="9144000" cy="13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231840" y="1284120"/>
            <a:ext cx="85341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ublications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Software (with deadlines until end of the task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hase I – Task deadline (January 2017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MS PGothic"/>
              </a:rPr>
              <a:t>Framework derived from previous work on name-based replication priorities for emergency services with social encoun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Phase II – UMOBILE demo (July 2017??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Tahoma"/>
                <a:ea typeface="MS PGothic"/>
              </a:rPr>
              <a:t>Implementation of the NREP solution integrated into the UMOBILE architecture over smartphone solutions (i.e. Android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  <a:ea typeface="MS PGothic"/>
              </a:rPr>
              <a:t>Plan and development of a demo to show the benefits of NREP in the project review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53960" indent="-44928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453960"/>
                <a:tab algn="l" pos="901800"/>
                <a:tab algn="l" pos="1351080"/>
                <a:tab algn="l" pos="1800360"/>
                <a:tab algn="l" pos="2249640"/>
                <a:tab algn="l" pos="2698920"/>
                <a:tab algn="l" pos="3147840"/>
                <a:tab algn="l" pos="3597120"/>
                <a:tab algn="l" pos="4046400"/>
                <a:tab algn="l" pos="4495680"/>
                <a:tab algn="l" pos="4944960"/>
                <a:tab algn="l" pos="5394240"/>
                <a:tab algn="l" pos="5843520"/>
                <a:tab algn="l" pos="6292800"/>
                <a:tab algn="l" pos="6742080"/>
                <a:tab algn="l" pos="7191360"/>
                <a:tab algn="l" pos="7640640"/>
                <a:tab algn="l" pos="8089920"/>
                <a:tab algn="l" pos="8539200"/>
                <a:tab algn="l" pos="8988480"/>
                <a:tab algn="l" pos="943776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79280" y="692280"/>
            <a:ext cx="8229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ahoma"/>
              </a:rPr>
              <a:t>UMOBILE</a:t>
            </a:r>
            <a:br>
              <a:rPr sz="3000"/>
            </a:br>
            <a:r>
              <a:rPr b="1" lang="en-US" sz="2200" spc="-1" strike="noStrike">
                <a:solidFill>
                  <a:srgbClr val="c00000"/>
                </a:solidFill>
                <a:latin typeface="Tahoma"/>
              </a:rPr>
              <a:t>Task 4.3: Current Stat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1"/>
          <p:cNvSpPr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452520" indent="-44928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  <a:tab algn="l" pos="112316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2520" indent="-44928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Open Questions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2520" indent="-44928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Non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2520" indent="-449280">
              <a:lnSpc>
                <a:spcPct val="100000"/>
              </a:lnSpc>
              <a:spcBef>
                <a:spcPts val="388"/>
              </a:spcBef>
              <a:tabLst>
                <a:tab algn="l" pos="0"/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Tahoma"/>
              </a:rPr>
              <a:t>Next Steps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2520" indent="-44928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We are working in the development of the extension of NREP solution with social encounters enhance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52520" indent="-449280">
              <a:lnSpc>
                <a:spcPct val="100000"/>
              </a:lnSpc>
              <a:spcBef>
                <a:spcPts val="388"/>
              </a:spcBef>
              <a:buClr>
                <a:srgbClr val="000000"/>
              </a:buClr>
              <a:buFont typeface="Arial"/>
              <a:buChar char="•"/>
              <a:tabLst>
                <a:tab algn="l" pos="452520"/>
                <a:tab algn="l" pos="900000"/>
                <a:tab algn="l" pos="1349280"/>
                <a:tab algn="l" pos="1798560"/>
                <a:tab algn="l" pos="2247840"/>
                <a:tab algn="l" pos="2697120"/>
                <a:tab algn="l" pos="3146400"/>
                <a:tab algn="l" pos="3595680"/>
                <a:tab algn="l" pos="4044960"/>
                <a:tab algn="l" pos="4494240"/>
                <a:tab algn="l" pos="4943520"/>
                <a:tab algn="l" pos="5392800"/>
                <a:tab algn="l" pos="5842080"/>
                <a:tab algn="l" pos="6291360"/>
                <a:tab algn="l" pos="6740640"/>
                <a:tab algn="l" pos="7189920"/>
                <a:tab algn="l" pos="7639200"/>
                <a:tab algn="l" pos="8088480"/>
                <a:tab algn="l" pos="8537400"/>
                <a:tab algn="l" pos="8986680"/>
                <a:tab algn="l" pos="9435960"/>
                <a:tab algn="l" pos="9883800"/>
                <a:tab algn="l" pos="10333080"/>
                <a:tab algn="l" pos="10782360"/>
                <a:tab algn="l" pos="1123164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ahoma"/>
              </a:rPr>
              <a:t>Discuss with Senception to possibility of an implementation over Android and the tasks evolved from i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"/>
          <p:cNvSpPr/>
          <p:nvPr/>
        </p:nvSpPr>
        <p:spPr>
          <a:xfrm>
            <a:off x="179280" y="689040"/>
            <a:ext cx="8229600" cy="9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2760" bIns="32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</a:tabLst>
            </a:pPr>
            <a:r>
              <a:rPr b="1" lang="en-US" sz="3000" spc="-1" strike="noStrike">
                <a:solidFill>
                  <a:srgbClr val="0070c0"/>
                </a:solidFill>
                <a:latin typeface="Tahoma"/>
              </a:rPr>
              <a:t>UMOBILE</a:t>
            </a:r>
            <a:br>
              <a:rPr sz="3000"/>
            </a:br>
            <a:r>
              <a:rPr b="1" lang="en-US" sz="2200" spc="-1" strike="noStrike">
                <a:solidFill>
                  <a:srgbClr val="c00000"/>
                </a:solidFill>
                <a:latin typeface="Tahoma"/>
              </a:rPr>
              <a:t>Task 4.3: Open Questions and Next Ste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"/>
          <p:cNvSpPr/>
          <p:nvPr/>
        </p:nvSpPr>
        <p:spPr>
          <a:xfrm>
            <a:off x="8594640" y="6216480"/>
            <a:ext cx="27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32760" bIns="32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3A617ACE-0C38-4DAB-A838-635DA48A0389}" type="slidenum">
              <a:rPr b="0" lang="en-US" sz="1400" spc="-1" strike="noStrike">
                <a:solidFill>
                  <a:srgbClr val="ffffff"/>
                </a:solidFill>
                <a:latin typeface="Helvetica Neu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35120" y="2035080"/>
            <a:ext cx="4422960" cy="21988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2760" bIns="32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fld id="{C256A8B3-A4E4-470C-92EF-23340204380F}" type="slidenum">
              <a:rPr b="0" lang="pt-PT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32760" bIns="327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Tahoma"/>
              </a:rPr>
              <a:t>UCL | s.rene@ucl.ac.u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Sergi Reñé</cp:lastModifiedBy>
  <dcterms:modified xsi:type="dcterms:W3CDTF">2016-09-27T08:18:49Z</dcterms:modified>
  <cp:revision>233</cp:revision>
  <dc:subject/>
  <dc:title>Slide 1</dc:title>
</cp:coreProperties>
</file>